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BD47-6F62-44A4-9C7E-3644AF1C5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648E-D8B8-4063-98F2-CD8202860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6A07-6513-4964-B3C2-BD32783E0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2BC5-C00B-41F4-8231-AA020EFAA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551D-7F7F-4836-870B-ADA39AF85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49A0-95A5-4507-B247-788291D1A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F4CD-4FDC-4870-A086-BBF2A2811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EADC-0D4C-41EA-B302-CD1C165DE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C019-4C76-4EF6-8CAF-5B478F099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703E-82CE-4370-93CB-486281D9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0904-70B9-482C-A799-733C73EC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5CFD-4D9E-41CC-8855-B1D8E2C8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B716B-F43C-44A5-9CBB-08D303E0EEAE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tty drivers loaded on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vi /proc/tty/dri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3429000"/>
            <a:ext cx="7391520" cy="2922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949200" y="26272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j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031720" y="26668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View serial 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vi /proc/tty/driver/s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0283</cp:lastModifiedBy>
  <dcterms:modified xsi:type="dcterms:W3CDTF">2014-08-01T02:55:2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