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28B-37F2-41A0-A172-EB7EB6F6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9F7-0DD9-4964-A6CE-9C276A7F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5B4-6209-45F2-80E8-4A157087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759-56F7-417B-B862-ADD5D3AE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7CE-04C0-4BF8-B3B0-E9AB41C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215-425D-498A-9990-505B2C74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9A1-FD21-48F9-A989-7BA9D9E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D15-FBAA-44DA-97C2-DD3BAC64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37F-021B-45B5-86FF-239191FF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16E-FE76-4BFC-999D-51AE55D3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734-6BF5-4652-90C7-4C5BE1B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51A-B16C-42BD-B410-674B9FC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633C-6CA3-4BAE-B310-8D479C28F35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sing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nstall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e “yum” online package ins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search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install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x: “yum remove mini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Setup mini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fter successful installing minicom, you should setup it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un: “minicom -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tup serial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ave setup as dfl, then exit form mi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1627200" cy="127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4343400"/>
            <a:ext cx="41356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Run: “minico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trl+A, then Z to open help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8575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loopback modul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the status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lugging null modem, Offline has changed to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471024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44197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serial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ke loopback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connect setting must b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ven the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o a fil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elect transf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z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hange Dir, [Goto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ag a file, [Oka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429408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657600" y="5943600"/>
            <a:ext cx="43149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inicom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475160" cy="165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3886200"/>
            <a:ext cx="44053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3-03-15T09:06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